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02EF-98B0-415E-9B72-C124B95CE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CCFE-49D5-4A92-9B0B-E779E072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B38C-98F7-4192-B7C6-1BD128D7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B10F-08D7-4439-9E0C-A224886A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31D2-4E63-4E47-A3F1-84CBABDCD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FAF5-1359-4B17-B34D-D72FE1B5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2C36-A0ED-45FF-8004-54367FFE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C43F-716D-4BE8-AB73-F041F498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A20B-49AB-4A8C-8BF4-DB20D7BF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BA58-A5CD-478F-BB88-CB7BCD7B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F2B7-EF10-4D38-AFA5-754AC3BE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9DC1-5E78-44C3-93A2-F18B9869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B613-B770-464C-9066-3D5E3D85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477F-8C60-4F68-B8B9-B22F59DE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3B28-6A6C-418B-B30B-D5BE8614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7EE7-9B65-4DD0-98A7-5349382F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1CE9-E540-4958-B21E-B928A0985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73DA-340A-4171-93C9-FBCDFFA6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97DF-8280-4AF3-9D2E-43232D32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8442-80A1-4C2C-B4E2-719F11B2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D30D-27A9-4E75-A31E-6CFDB918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FAD7-66B4-4027-95A3-DA86BFC7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A890-1810-4DEB-BDF2-85B81A24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D47E-2169-4B83-9158-30B58BA0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A990-D701-4DA6-92D0-DDB69AA7B93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3ED4-6B40-4B85-BCC0-25662E907E8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015400" cy="14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ОССИЙСКОЙ ФЕДЕРАЦ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ое бюджетное образовательное учреждение высшего профессионального образ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АСНОЯРСКИЙ ГОСУДАРСТВЕННЫЙ ПЕДАГОГИЧЕСКИЙ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НИВЕРСИТЕТ  им. В.П.АСТАФЬЕВА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 физической культуры, спорта и здоровья им. И.С. Ярыгина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обенности развития координционных способностей у обучающихся младшего школьного возраста на уроках физкультуры общеобразовательной школ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олнил студен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янская Т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учный 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рапатин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cimnastik.jpg"/>
          <p:cNvPicPr/>
          <p:nvPr/>
        </p:nvPicPr>
        <p:blipFill>
          <a:blip r:embed="rId1"/>
          <a:stretch/>
        </p:blipFill>
        <p:spPr>
          <a:xfrm>
            <a:off x="665280" y="2917800"/>
            <a:ext cx="52210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рганизация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ние проводилось на базе общеобразовательной школы № 2 г. Красноярска в четыре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этап  – изучение научно методической литературы по теме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этап  – разработка метод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этап – проверка эффективности методики, педагогический экспериме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этап – обработка результатов, написание и защита диплом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иды тестир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кувырка вперед на время выполнения (учитывают допущенные при этом ошибк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ночный бег Зх10 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лансирование на гимнастической ска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Три кувырка вперед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д теста: Обучающийся встает у края матов, уложенных в длину, приняв основную стойку. По команде принимается положение упора присев, после группировки оттолкнувшись ногами, переворачивается через голову, прижимая подбородок к груди, возвращается в исходное положение. Последовательно, без остановки выполняется три кувырка вперед, стараясь сделать это за минимальный отрезок времени. После последнего кувырка обучающийся принимает основную стойку. Фиксируется время выполнения задания и оценка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Челночный бег Зх10 м»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д теста: Ровная дорожка длиной 10 метров, отмеченная двумя чертами. За каждой чертой устанавливается мяч. По команде «На старт» учащийся принимает положение высокого старта у стартовой черты. По команде «Марш» включается секундомер, обучающийся бежит с максимальной скоростью 3 раза 10 метровую дистанция ( вначале пробежать 10 м до черты, коснуться рукой мяча, возвратиться назад, снова коснуться рукой мяча, бежать в третий раз10 метров финишируя). Результат оценивается до десятой доли секу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3160" y="252000"/>
            <a:ext cx="80154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алансирование на гимнастической скам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Ход теста: Обучающийся выполняет на поверхности гимнастической скамьи четыре поворота (вправо-влево), не упав. Поворот закончен когда обучающийся вернется в исходное положение. Результат оценивается на время выполнения четырех поворотов (с точностью до 0,1 секунды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щие указания и замечания: после объяснения, демонстрации и опро­бования, ученик выполняет задание. Если он потерял равновесие (соскочил), то дается одна штрафная секунда. Прикасание к земле более трех раз – упражнение необходимо выполнять вновь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1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до педагогического эксперимента (сентябр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 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2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после педагогического эксперимента (апрел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рост показателей физических качеств в 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Содержимое 3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52360"/>
            <a:ext cx="8015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кала оценки темпов прироста физических качест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ающихся младшего школьного возраст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74720" y="1600200"/>
          <a:ext cx="7521480" cy="4375080"/>
        </p:xfrm>
        <a:graphic>
          <a:graphicData uri="http://schemas.openxmlformats.org/drawingml/2006/table">
            <a:tbl>
              <a:tblPr/>
              <a:tblGrid>
                <a:gridCol w="2506680"/>
                <a:gridCol w="2508120"/>
                <a:gridCol w="2506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пы приро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счёт чего достигнут при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роста естественной двигательной актив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целенаправленной системы Ф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более эффективного использования естественных сил природы и Ф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9963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проблемы повышения координационных способностей  показал, что в  процессе физического воспитания подрастающего поколения значительное место должно быть отведено воспитанию координационных способностей, так как высокий уровень развития  этих качеств во многом способствует гармоничному развитию личности, достижению высоких результатов в учебной деятельности, успешной трудовой деятельности в дальнейше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данных свидетельствует о том, что у обучащихся младшего школьного   возраста, занимающихся по стандартной школьной программе, то есть в  контрольной группе в конце педагогического эксперимента, показатели развития координационных способностей  увеличиваются незначительно, в отличии от показателей в     экспериментальной групп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ожно сделать вывод, что показатели координационных способностей  обучащихся младшего школьного возраста экспериментальной группы достоверно выше показателей контрольной группы. Причиной этому явился экспериментальный фактор, а именно использование на уроках физической культуры комплексов  упражнений на развитие координац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ктуальн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3800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ой из наиболее актуальных проблем физического воспитания подрастающего поколения в Российской Федерации является развитие координационных способностей у обучающихся младшего школьного возраста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.к. в этом возрасте закладываются основы управления движениями, формируются умения и навыки, отсутствие которых зачастую не удаётся восполнить в более позднем возра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бретение богатого двигательного опыта у обучающихся в младшем школьном возрасте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мнению многих специалистов значительное место в процессе физического воспитания подрастающего поколения должно быть отведено воспитанию координационных способностей , так как высокий уровень развития этого качества во многом способствует успешной трудовой деятельности человека и достижению высоких результатов в учеб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актические рекомендаци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индивидуальный подход к каждому обучающему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разработанные методические мероприятия в комплексе, так как именно комплексность данной методики делает ее наиболее эффектив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ывать их морфологические показатели и физическую подготовленность к занят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ы упражнений применять в первой половине за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время выполнения упражнений использовать музыкальное сопровождение небольшой гром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ной и удобной формой организации и проведения занятия является круговой метод, позволяющий повысить интенсивность выполнения упражн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язательно учитывать темпы прироста показа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пределения уровня физической подготовленности рекомендуется использовать контрольные упражнения не реже двух раз в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л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наиболее эффективные средства развития координационных способностей у обучающихся младшего школьного возраста на уроках физической культуры в общеобразовательной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чи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232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анализировать и выделить наиболее эффективные методы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явить закономерности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работать экспериментальную программу для развития координационных способностей, основанную на применении упражнений художественной гимнастики на уроках физической культуры и выявить ее эффективност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верить эффективность методики развития координационных способностей обучающихся младшего школьного возраста посредством практического экспери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ипотеза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 физических и гимнастических упражнений с динамическим характером на уроках физической культуры могут значительно повысить уровень координационных способностей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бъек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едме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развития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начим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етическая значимость исследован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дополнении теории и методики развития двигательных качеств у обучащихся младшего школьного возраста методическими положениями по повышению координационных способностей в результате использования на уроках физической культуры    комплексов специальных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актическая значимост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повышении уровня развития координационных способностей у    обучающихся младшего возраста, в результате использования на уроках физической культуры специальных комплексов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етоды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ий анализ и обобщение научно-методической лит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ический экспери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контрольных испыт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математической статис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1T14:15:21Z</dcterms:created>
  <dc:creator>UBAH</dc:creator>
  <dc:description/>
  <dc:language>en-US</dc:language>
  <cp:lastModifiedBy>Таня</cp:lastModifiedBy>
  <dcterms:modified xsi:type="dcterms:W3CDTF">2017-06-21T18:24:03Z</dcterms:modified>
  <cp:revision>151</cp:revision>
  <dc:subject/>
  <dc:title>Методика ра</dc:title>
</cp:coreProperties>
</file>