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4399-1353-4E81-BDEC-4E18D56B0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320C-788A-416E-8500-CBC331C0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4449-A318-4665-A699-353177BDE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334D-C0A8-43C7-A8AF-0F3EFA8A0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799F-5C31-45FD-B328-89BC56D4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82A6-7A13-41FB-A8AE-81F4C957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E689-161E-4E85-9E68-01462E2A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3904-26DA-4023-A7DF-DFFFC8EE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5EDA-2907-4594-B424-26EE1B90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3C87-42A6-49B1-BE2A-6435DA1A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CD05-0E38-4A90-9638-43578802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2F59-1F4F-4780-8648-69B10F60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05D0-78DE-49F7-B312-B23D766A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4FD8-B50E-48BC-8482-7212C7BC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EDD3-B442-4B97-B81F-AEA194F2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92EE-6F91-4F26-BA26-69CBED506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D31B-C8CD-4E71-ADA9-8EAA0CCB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D510-DA4E-48C2-B2F4-CCAF0F92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8ACC-AD52-4488-92D3-3889C4F1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945D-EA6E-43CC-92F9-B4B7E05A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0601-C2AB-4B43-AEE0-120F3232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1A87-A58E-40C8-808A-ED6856DD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3AEC-236C-4E16-9F04-33161E2B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3F0F-3A64-4A75-8910-FA3EEAA3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5BB8-0E24-4C69-A80B-2ACC4852D35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BE5A-E156-49BA-89F9-DBE0C7894D9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015400" cy="14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ОССИЙСКОЙ ФЕДЕРАЦИ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ое бюджетное образовательное учреждение высшего профессионального образов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АСНОЯРСКИЙ ГОСУДАРСТВЕННЫЙ ПЕДАГОГИЧЕСКИЙ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НИВЕРСИТЕТ  им. В.П.АСТАФЬЕВА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тут физической культуры, спорта и здоровья им. И.С. Ярыгина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собенности развития координционных способностей у обучающихся младшего школьного возраста на уроках физкультуры общеобразовательной школ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полнил студен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янская Т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учный 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рапатин С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" descr="cimnastik.jpg"/>
          <p:cNvPicPr/>
          <p:nvPr/>
        </p:nvPicPr>
        <p:blipFill>
          <a:blip r:embed="rId1"/>
          <a:stretch/>
        </p:blipFill>
        <p:spPr>
          <a:xfrm>
            <a:off x="665280" y="2917800"/>
            <a:ext cx="52210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рганизация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следование проводилось на базе общеобразовательной школы № 2 г. Красноярска в четыре 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этап  – изучение научно методической литературы по теме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этап  – разработка метод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этап – проверка эффективности методики, педагогический эксперимен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этап – обработка результатов, написание и защита дипломн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иды тестир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кувырка вперед на время выполнения (учитывают допущенные при этом ошибк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ночный бег Зх10 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лансирование на гимнастической ска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Три кувырка вперед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д теста: Обучающийся встает у края матов, уложенных в длину, приняв основную стойку. По команде принимается положение упора присев, после группировки оттолкнувшись ногами, переворачивается через голову, прижимая подбородок к груди, возвращается в исходное положение. Последовательно, без остановки выполняется три кувырка вперед, стараясь сделать это за минимальный отрезок времени. После последнего кувырка обучающийся принимает основную стойку. Фиксируется время выполнения задания и оценка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Челночный бег Зх10 м».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д теста: Ровная дорожка длиной 10 метров, отмеченная двумя чертами. За каждой чертой устанавливается мяч. По команде «На старт» учащийся принимает положение высокого старта у стартовой черты. По команде «Марш» включается секундомер, обучающийся бежит с максимальной скоростью 3 раза 10 метровую дистанция ( вначале пробежать 10 м до черты, коснуться рукой мяча, возвратиться назад, снова коснуться рукой мяча, бежать в третий раз10 метров финишируя). Результат оценивается до десятой доли секун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3160" y="252000"/>
            <a:ext cx="80154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Балансирование на гимнастической скамье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Ход теста: Обучающийся выполняет на поверхности гимнастической скамьи четыре поворота (вправо-влево), не упав. Поворот закончен когда обучающийся вернется в исходное положение. Результат оценивается на время выполнения четырех поворотов (с точностью до 0,1 секунды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щие указания и замечания: после объяснения, демонстрации и опро­бования, ученик выполняет задание. Если он потерял равновесие (соскочил), то дается одна штрафная секунда. Прикасание к земле более трех раз – упражнение необходимо выполнять вновь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1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до педагогического эксперимента (сентябр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 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2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после педагогического эксперимента (апрел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рост показателей физических качеств в 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Содержимое 3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9250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52360"/>
            <a:ext cx="8015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кала оценки темпов прироста физических качест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ающихся младшего школьного возраст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74720" y="1600200"/>
          <a:ext cx="7521480" cy="4375080"/>
        </p:xfrm>
        <a:graphic>
          <a:graphicData uri="http://schemas.openxmlformats.org/drawingml/2006/table">
            <a:tbl>
              <a:tblPr/>
              <a:tblGrid>
                <a:gridCol w="2506680"/>
                <a:gridCol w="2508120"/>
                <a:gridCol w="25066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пы приро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 счёт чего достигнут прир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– 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роста естественной двигательной актив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целенаправленной системы Ф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более эффективного использования естественных сил природы и Ф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9963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проблемы повышения координационных способностей  показал, что в  процессе физического воспитания подрастающего поколения значительное место должно быть отведено воспитанию координационных способностей, так как высокий уровень развития  этих качеств во многом способствует гармоничному развитию личности, достижению высоких результатов в учебной деятельности, успешной трудовой деятельности в дальнейше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данных свидетельствует о том, что у обучащихся младшего школьного   возраста, занимающихся по стандартной школьной программе, то есть в  контрольной группе в конце педагогического эксперимента, показатели развития координационных способностей  увеличиваются незначительно, в отличии от показателей в     экспериментальной групп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ожно сделать вывод, что показатели координационных способностей  обучащихся младшего школьного возраста экспериментальной группы достоверно выше показателей контрольной группы. Причиной этому явился экспериментальный фактор, а именно использование на уроках физической культуры комплексов  упражнений на развитие координац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ктуальн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3800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ой из наиболее актуальных проблем физического воспитания подрастающего поколения в Российской Федерации является развитие координационных способностей у обучающихся младшего школьного возраста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.к. в этом возрасте закладываются основы управления движениями, формируются умения и навыки, отсутствие которых зачастую не удаётся восполнить в более позднем возрас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бретение богатого двигательного опыта у обучающихся в младшем школьном возрасте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мнению многих специалистов значительное место в процессе физического воспитания подрастающего поколения должно быть отведено воспитанию координационных способностей , так как высокий уровень развития этого качества во многом способствует успешной трудовой деятельности человека и достижению высоких результатов в учеб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актические рекомендаци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индивидуальный подход к каждому обучающему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разработанные методические мероприятия в комплексе, так как именно комплексность данной методики делает ее наиболее эффективн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ывать их морфологические показатели и физическую подготовленность к занят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ы упражнений применять в первой половине зан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 время выполнения упражнений использовать музыкальное сопровождение небольшой гром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ной и удобной формой организации и проведения занятия является круговой метод, позволяющий повысить интенсивность выполнения упражн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язательно учитывать темпы прироста показа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определения уровня физической подготовленности рекомендуется использовать контрольные упражнения не реже двух раз в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Цел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ить наиболее эффективные средства развития координационных способностей у обучающихся младшего школьного возраста на уроках физической культуры в общеобразовательной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чи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232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анализировать и выделить наиболее эффективные методы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явить закономерности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зработать экспериментальную программу для развития координационных способностей, основанную на применении упражнений художественной гимнастики на уроках физической культуры и выявить ее эффективност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верить эффективность методики развития координационных способностей обучающихся младшего школьного возраста посредством практического экспери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Гипотеза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 физических и гимнастических упражнений с динамическим характером на уроках физической культуры могут значительно повысить уровень координационных способностей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бъек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едме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 развития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начим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етическая значимость исследован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дополнении теории и методики развития двигательных качеств у обучащихся младшего школьного возраста методическими положениями по повышению координационных способностей в результате использования на уроках физической культуры    комплексов специальных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актическая значимость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повышении уровня развития координационных способностей у    обучающихся младшего возраста, в результате использования на уроках физической культуры специальных комплексов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етоды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ческий анализ и обобщение научно-методической литера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ический экспери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контрольных испыт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математической статис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1T14:15:21Z</dcterms:created>
  <dc:creator>UBAH</dc:creator>
  <dc:description/>
  <dc:language>en-US</dc:language>
  <cp:lastModifiedBy>Таня</cp:lastModifiedBy>
  <dcterms:modified xsi:type="dcterms:W3CDTF">2017-06-21T18:24:03Z</dcterms:modified>
  <cp:revision>151</cp:revision>
  <dc:subject/>
  <dc:title>Методика ра</dc:title>
</cp:coreProperties>
</file>