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526E-08BF-4798-B810-4D2BD4CD6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B338-9C4B-4089-8FAE-ACAE8DBA4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2710-2228-4F16-B3C9-075DB1276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D17A-1ABC-49FD-AB87-835EBAF7A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7AC3B-054A-4508-AAFB-D2F96BA33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C5E79-EFA2-4A4E-A8B7-EAB771740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092FE-95C9-41E2-8321-1C2A592C6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7C01E-B24A-42FD-AA14-1DB773A93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E77F1-68D3-4CB9-A5AE-23028A1B9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2EE7F-3050-431F-92B2-F3245771E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87916-8F97-4F78-8062-1536EA01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54B8-06D7-413E-8419-238DD9270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6FE45-C205-4729-A8B5-5FAA5FB73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51810-FA77-4ABD-8F64-F9F3E221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BF990-37C2-4434-9930-C085E57ED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6872C-6499-40EB-9ED9-7E8658BE6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F8BBC-DE81-4EBF-8879-0F4A0F16A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3D7A-36B0-4378-8796-F9B43B666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25AD-571D-4611-932B-4CD11FE6B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6AFD-8080-440C-BA9A-1B2358009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C90E-D763-4FA3-A0B8-7F03283F2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FC20-4A93-4DAA-8D24-3C6173DB0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9FCC-C225-4F86-993D-0F30CC65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BD15-2679-4762-B2DC-E49874AF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F83A4-0015-4550-B859-99A60455220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A8B1A-4498-44C3-BC8A-F7F048751D8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015400" cy="14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ИНИСТЕРСТВО ОБРАЗОВАНИЯ И НАУКИ РОССИЙСКОЙ ФЕДЕРАЦИИ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едеральное бюджетное образовательное учреждение высшего профессионального образовани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АСНОЯРСКИЙ ГОСУДАРСТВЕННЫЙ ПЕДАГОГИЧЕСКИЙ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НИВЕРСИТЕТ  им. В.П.АСТАФЬЕВА  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ститут физической культуры, спорта и здоровья им. И.С. Ярыгина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Особенности развития координционных способностей у обучающихся младшего школьного возраста на уроках физкультуры общеобразовательной школ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полнил студен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янская Т.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учный руководител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рапатин С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4" descr="cimnastik.jpg"/>
          <p:cNvPicPr/>
          <p:nvPr/>
        </p:nvPicPr>
        <p:blipFill>
          <a:blip r:embed="rId1"/>
          <a:stretch/>
        </p:blipFill>
        <p:spPr>
          <a:xfrm>
            <a:off x="665280" y="2917800"/>
            <a:ext cx="522108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Организация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следование проводилось на базе общеобразовательной школы № 2 г. Красноярска в четыре этап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этап  – изучение научно методической литературы по теме рабо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 этап  – разработка методи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 этап – проверка эффективности методики, педагогический эксперимен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 этап – обработка результатов, написание и защита дипломной р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иды тестир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и кувырка вперед на время выполнения (учитывают допущенные при этом ошибки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лночный бег Зх10 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лансирование на гимнастической скам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«Три кувырка вперед»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од теста: Обучающийся встает у края матов, уложенных в длину, приняв основную стойку. По команде принимается положение упора присев, после группировки оттолкнувшись ногами, переворачивается через голову, прижимая подбородок к груди, возвращается в исходное положение. Последовательно, без остановки выполняется три кувырка вперед, стараясь сделать это за минимальный отрезок времени. После последнего кувырка обучающийся принимает основную стойку. Фиксируется время выполнения задания и оценка результ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«Челночный бег Зх10 м».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д теста: Ровная дорожка длиной 10 метров, отмеченная двумя чертами. За каждой чертой устанавливается мяч. По команде «На старт» учащийся принимает положение высокого старта у стартовой черты. По команде «Марш» включается секундомер, обучающийся бежит с максимальной скоростью 3 раза 10 метровую дистанция ( вначале пробежать 10 м до черты, коснуться рукой мяча, возвратиться назад, снова коснуться рукой мяча, бежать в третий раз10 метров финишируя). Результат оценивается до десятой доли секун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63160" y="252000"/>
            <a:ext cx="80154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Балансирование на гимнастической скамье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Ход теста: Обучающийся выполняет на поверхности гимнастической скамьи четыре поворота (вправо-влево), не упав. Поворот закончен когда обучающийся вернется в исходное положение. Результат оценивается на время выполнения четырех поворотов (с точностью до 0,1 секунды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бщие указания и замечания: после объяснения, демонстрации и опро­бования, ученик выполняет задание. Если он потерял равновесие (соскочил), то дается одна штрафная секунда. Прикасание к земле более трех раз – упражнение необходимо выполнять вновь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аблица 1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зультаты тестирования контрольной и экспериментальной групп до педагогического эксперимента (сентябрь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609480" y="1600200"/>
          <a:ext cx="7925040" cy="4516560"/>
        </p:xfrm>
        <a:graphic>
          <a:graphicData uri="http://schemas.openxmlformats.org/drawingml/2006/table">
            <a:tbl>
              <a:tblPr/>
              <a:tblGrid>
                <a:gridCol w="3962520"/>
                <a:gridCol w="3962520"/>
              </a:tblGrid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д Контрольного испытания 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. арифм. величина (Х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и кувырка вперед на время выполнения (учитывают допущенные при этом ошибк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370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ночный бег Зх10 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70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ансирование на гимнастической скам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аблица 2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зультаты тестирования контрольной и экспериментальной групп после педагогического эксперимента (апрель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09480" y="1600200"/>
          <a:ext cx="7925040" cy="4516560"/>
        </p:xfrm>
        <a:graphic>
          <a:graphicData uri="http://schemas.openxmlformats.org/drawingml/2006/table">
            <a:tbl>
              <a:tblPr/>
              <a:tblGrid>
                <a:gridCol w="3962520"/>
                <a:gridCol w="3962520"/>
              </a:tblGrid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д Контрольного испытания 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.арифм. величина (Х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и кувырка вперед на время выполнения (учитывают допущенные при этом ошибк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370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ночный бег Зх10 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70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ансирование на гимнастической скам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ирост показателей физических качеств в %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Содержимое 3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79250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52360"/>
            <a:ext cx="8015400" cy="11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Шкала оценки темпов прироста физических качеств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учающихся младшего школьного возраста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774720" y="1600200"/>
          <a:ext cx="7521480" cy="4375080"/>
        </p:xfrm>
        <a:graphic>
          <a:graphicData uri="http://schemas.openxmlformats.org/drawingml/2006/table">
            <a:tbl>
              <a:tblPr/>
              <a:tblGrid>
                <a:gridCol w="2506680"/>
                <a:gridCol w="2508120"/>
                <a:gridCol w="25066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мпы прирос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це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 счёт чего достигнут приро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76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удовлетворитель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счёт естественного рост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– 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овлетворитель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счёт естественного роста и роста естественной двигательной активнос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76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– 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рош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счёт естественного роста и целенаправленной системы Ф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ыше 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лич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счёт более эффективного использования естественных сил природы и Ф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ывод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7996320" cy="46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нализ проблемы повышения координационных способностей  показал, что в  процессе физического воспитания подрастающего поколения значительное место должно быть отведено воспитанию координационных способностей, так как высокий уровень развития  этих качеств во многом способствует гармоничному развитию личности, достижению высоких результатов в учебной деятельности, успешной трудовой деятельности в дальнейшем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нализ данных свидетельствует о том, что у обучащихся младшего школьного   возраста, занимающихся по стандартной школьной программе, то есть в  контрольной группе в конце педагогического эксперимента, показатели развития координационных способностей  увеличиваются незначительно, в отличии от показателей в     экспериментальной групп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можно сделать вывод, что показатели координационных способностей  обучащихся младшего школьного возраста экспериментальной группы достоверно выше показателей контрольной группы. Причиной этому явился экспериментальный фактор, а именно использование на уроках физической культуры комплексов  упражнений на развитие координаци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Актуальность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63800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дной из наиболее актуальных проблем физического воспитания подрастающего поколения в Российской Федерации является развитие координационных способностей у обучающихся младшего школьного возраста,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.к. в этом возрасте закладываются основы управления движениями, формируются умения и навыки, отсутствие которых зачастую не удаётся восполнить в более позднем возрас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обретение богатого двигательного опыта у обучающихся в младшем школьном возрасте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 мнению многих специалистов значительное место в процессе физического воспитания подрастающего поколения должно быть отведено воспитанию координационных способностей , так как высокий уровень развития этого качества во многом способствует успешной трудовой деятельности человека и достижению высоких результатов в учебной деятель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актические рекомендации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менять индивидуальный подход к каждому обучающему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менять разработанные методические мероприятия в комплексе, так как именно комплексность данной методики делает ее наиболее эффективно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ывать их морфологические показатели и физическую подготовленность к занятия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плексы упражнений применять в первой половине занят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 время выполнения упражнений использовать музыкальное сопровождение небольшой громк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ресной и удобной формой организации и проведения занятия является круговой метод, позволяющий повысить интенсивность выполнения упражн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язательно учитывать темпы прироста показател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определения уровня физической подготовленности рекомендуется использовать контрольные упражнения не реже двух раз в го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Цель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явить наиболее эффективные средства развития координационных способностей у обучающихся младшего школьного возраста на уроках физической культуры в общеобразовательной шко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Задачи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79232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оанализировать и выделить наиболее эффективные методы развития координационных способностей у обучающихся младшего школьного возрас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ыявить закономерности развития координационных способностей у обучающихся младшего школьного возрас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азработать экспериментальную программу для развития координационных способностей, основанную на применении упражнений художественной гимнастики на уроках физической культуры и выявить ее эффективность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оверить эффективность методики развития координационных способностей обучающихся младшего школьного возраста посредством практического эксперимента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Гипотеза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нение физических и гимнастических упражнений с динамическим характером на уроках физической культуры могут значительно повысить уровень координационных способностей обучающихся младшего школьного возра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Объект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витие координационных способностей у обучающихся младшего школьного возра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едмет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ика развития координационных способностей у обучающихся младшего школьного возра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Значимость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еоретическая значимость исследования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ключается в дополнении теории и методики развития двигательных качеств у обучащихся младшего школьного возраста методическими положениями по повышению координационных способностей в результате использования на уроках физической культуры    комплексов специальных упражне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актическая значимость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ключается в повышении уровня развития координационных способностей у    обучающихся младшего возраста, в результате использования на уроках физической культуры специальных комплексов упражне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Методы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оретический анализ и обобщение научно-методической литерату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дагогический эксперимен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 контрольных испыт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 математической статист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1T14:15:21Z</dcterms:created>
  <dc:creator>UBAH</dc:creator>
  <dc:description/>
  <dc:language>en-US</dc:language>
  <cp:lastModifiedBy>Таня</cp:lastModifiedBy>
  <dcterms:modified xsi:type="dcterms:W3CDTF">2017-06-21T18:24:03Z</dcterms:modified>
  <cp:revision>151</cp:revision>
  <dc:subject/>
  <dc:title>Методика ра</dc:title>
</cp:coreProperties>
</file>