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7CCD-A525-45E5-9500-3F69702CB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12D6-98A4-4B0A-9745-9C78FE7C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E2C4-C622-4713-AE0C-B83545F1D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1F0B-1F40-4F85-9105-BF52D5754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1187-538F-49F2-878A-465DB47FB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D7C0-92B3-40D3-BCE7-A5EFDA6E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A102-A44D-4012-BE96-43D7566B9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1AD3-777C-46AC-9524-E88CA288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8994D-61C8-4BAE-ADD7-32E4E16B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6166-66BA-475A-9730-C48C51ED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CACD-C498-44CC-B71D-2EF74DF9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ADE7-1480-4E6D-A92B-686B5DD4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EA2C-1480-4BA2-B67F-38FCA490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6ECF-54BC-4B3F-9D2F-F1605469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A774-8847-48CB-B9B9-C7F4EF92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FE35-63B7-421F-BA55-D983A0EF2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D8286-3B29-4C95-BF57-9EDFEE63E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BC03-C6A2-4B4C-A51B-1D831992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6EBF-45BD-4A58-904A-F485FC7E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FDD7-133B-4C4A-8D8C-AC431193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54A4-D8C2-4B1E-BE51-7110B454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DEC6-AD72-4C86-8360-C8DB4358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A19A-2333-4F47-9A17-F349F04B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58F8-5330-494B-AF78-2BFCDFD6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D960-6544-4ABA-BC84-E3DB8966D68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1B30-4256-451A-A02E-0FF06511C61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015400" cy="14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ОССИЙСКОЙ ФЕДЕРАЦИ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едеральное бюджетное образовательное учреждение высшего профессионального образова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АСНОЯРСКИЙ ГОСУДАРСТВЕННЫЙ ПЕДАГОГИЧЕСКИЙ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НИВЕРСИТЕТ  им. В.П.АСТАФЬЕВА 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итут физической культуры, спорта и здоровья им. И.С. Ярыгина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собенности развития координционных способностей у обучающихся младшего школьного возраста на уроках физкультуры общеобразовательной школ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полнил студен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янская Т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учный 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рапатин С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4" descr="cimnastik.jpg"/>
          <p:cNvPicPr/>
          <p:nvPr/>
        </p:nvPicPr>
        <p:blipFill>
          <a:blip r:embed="rId1"/>
          <a:stretch/>
        </p:blipFill>
        <p:spPr>
          <a:xfrm>
            <a:off x="665280" y="2917800"/>
            <a:ext cx="52210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рганизация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следование проводилось на базе общеобразовательной школы № 2 г. Красноярска в четыре эта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этап  – изучение научно методической литературы по теме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этап  – разработка метод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этап – проверка эффективности методики, педагогический эксперимен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этап – обработка результатов, написание и защита дипломно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иды тестир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 кувырка вперед на время выполнения (учитывают допущенные при этом ошибки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ночный бег Зх10 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лансирование на гимнастической скам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Три кувырка вперед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д теста: Обучающийся встает у края матов, уложенных в длину, приняв основную стойку. По команде принимается положение упора присев, после группировки оттолкнувшись ногами, переворачивается через голову, прижимая подбородок к груди, возвращается в исходное положение. Последовательно, без остановки выполняется три кувырка вперед, стараясь сделать это за минимальный отрезок времени. После последнего кувырка обучающийся принимает основную стойку. Фиксируется время выполнения задания и оценка результ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Челночный бег Зх10 м».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д теста: Ровная дорожка длиной 10 метров, отмеченная двумя чертами. За каждой чертой устанавливается мяч. По команде «На старт» учащийся принимает положение высокого старта у стартовой черты. По команде «Марш» включается секундомер, обучающийся бежит с максимальной скоростью 3 раза 10 метровую дистанция ( вначале пробежать 10 м до черты, коснуться рукой мяча, возвратиться назад, снова коснуться рукой мяча, бежать в третий раз10 метров финишируя). Результат оценивается до десятой доли секун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3160" y="252000"/>
            <a:ext cx="80154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Балансирование на гимнастической скамье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Ход теста: Обучающийся выполняет на поверхности гимнастической скамьи четыре поворота (вправо-влево), не упав. Поворот закончен когда обучающийся вернется в исходное положение. Результат оценивается на время выполнения четырех поворотов (с точностью до 0,1 секунды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щие указания и замечания: после объяснения, демонстрации и опро­бования, ученик выполняет задание. Если он потерял равновесие (соскочил), то дается одна штрафная секунда. Прикасание к земле более трех раз – упражнение необходимо выполнять вновь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блица 1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ультаты тестирования контрольной и экспериментальной групп до педагогического эксперимента (сентябр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09480" y="1600200"/>
          <a:ext cx="7925040" cy="4516560"/>
        </p:xfrm>
        <a:graphic>
          <a:graphicData uri="http://schemas.openxmlformats.org/drawingml/2006/table">
            <a:tbl>
              <a:tblPr/>
              <a:tblGrid>
                <a:gridCol w="3962520"/>
                <a:gridCol w="396252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Контрольного испытания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. арифм. величина (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кувырка вперед на время выполнения (учитывают допущенные при этом ошиб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ночный бег Зх10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ирование на гимнастической скам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блица 2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ультаты тестирования контрольной и экспериментальной групп после педагогического эксперимента (апрел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09480" y="1600200"/>
          <a:ext cx="7925040" cy="4516560"/>
        </p:xfrm>
        <a:graphic>
          <a:graphicData uri="http://schemas.openxmlformats.org/drawingml/2006/table">
            <a:tbl>
              <a:tblPr/>
              <a:tblGrid>
                <a:gridCol w="3962520"/>
                <a:gridCol w="396252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Контрольного испытания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.арифм. величина (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кувырка вперед на время выполнения (учитывают допущенные при этом ошиб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ночный бег Зх10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ирование на гимнастической скам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рост показателей физических качеств в 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Содержимое 3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9250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52360"/>
            <a:ext cx="80154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кала оценки темпов прироста физических качест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чающихся младшего школьного возраста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74720" y="1600200"/>
          <a:ext cx="7521480" cy="4375080"/>
        </p:xfrm>
        <a:graphic>
          <a:graphicData uri="http://schemas.openxmlformats.org/drawingml/2006/table">
            <a:tbl>
              <a:tblPr/>
              <a:tblGrid>
                <a:gridCol w="2506680"/>
                <a:gridCol w="2508120"/>
                <a:gridCol w="25066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пы приро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це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 счёт чего достигнут прир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удовлетвор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– 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 и роста естественной двигательной актив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– 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 и целенаправленной системы Ф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ыше 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л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более эффективного использования естественных сил природы и Ф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99632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нализ проблемы повышения координационных способностей  показал, что в  процессе физического воспитания подрастающего поколения значительное место должно быть отведено воспитанию координационных способностей, так как высокий уровень развития  этих качеств во многом способствует гармоничному развитию личности, достижению высоких результатов в учебной деятельности, успешной трудовой деятельности в дальнейше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нализ данных свидетельствует о том, что у обучащихся младшего школьного   возраста, занимающихся по стандартной школьной программе, то есть в  контрольной группе в конце педагогического эксперимента, показатели развития координационных способностей  увеличиваются незначительно, в отличии от показателей в     экспериментальной групп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ожно сделать вывод, что показатели координационных способностей  обучащихся младшего школьного возраста экспериментальной группы достоверно выше показателей контрольной группы. Причиной этому явился экспериментальный фактор, а именно использование на уроках физической культуры комплексов  упражнений на развитие координаци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ктуальност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3800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дной из наиболее актуальных проблем физического воспитания подрастающего поколения в Российской Федерации является развитие координационных способностей у обучающихся младшего школьного возраста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.к. в этом возрасте закладываются основы управления движениями, формируются умения и навыки, отсутствие которых зачастую не удаётся восполнить в более позднем возрас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обретение богатого двигательного опыта у обучающихся в младшем школьном возрасте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мнению многих специалистов значительное место в процессе физического воспитания подрастающего поколения должно быть отведено воспитанию координационных способностей , так как высокий уровень развития этого качества во многом способствует успешной трудовой деятельности человека и достижению высоких результатов в учеб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актические рекомендации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нять индивидуальный подход к каждому обучающему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нять разработанные методические мероприятия в комплексе, так как именно комплексность данной методики делает ее наиболее эффективн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ывать их морфологические показатели и физическую подготовленность к занят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лексы упражнений применять в первой половине зан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 время выполнения упражнений использовать музыкальное сопровождение небольшой гром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есной и удобной формой организации и проведения занятия является круговой метод, позволяющий повысить интенсивность выполнения упражн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язательно учитывать темпы прироста показа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определения уровня физической подготовленности рекомендуется использовать контрольные упражнения не реже двух раз в г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Цел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вить наиболее эффективные средства развития координационных способностей у обучающихся младшего школьного возраста на уроках физической культуры в общеобразовательной шк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дачи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9232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анализировать и выделить наиболее эффективные методы развития координационных способностей у обучающихся младшего школьного возрас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ыявить закономерности развития координационных способностей у обучающихся младшего школьного возрас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зработать экспериментальную программу для развития координационных способностей, основанную на применении упражнений художественной гимнастики на уроках физической культуры и выявить ее эффективность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верить эффективность методики развития координационных способностей обучающихся младшего школьного возраста посредством практического эксперимент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Гипотеза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ение физических и гимнастических упражнений с динамическим характером на уроках физической культуры могут значительно повысить уровень координационных способностей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бъект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координационных способностей у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едмет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ка развития координационных способностей у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начимост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оретическая значимость исследования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ключается в дополнении теории и методики развития двигательных качеств у обучащихся младшего школьного возраста методическими положениями по повышению координационных способностей в результате использования на уроках физической культуры    комплексов специальных упражн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актическая значимость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ключается в повышении уровня развития координационных способностей у    обучающихся младшего возраста, в результате использования на уроках физической культуры специальных комплексов упражн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Методы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етический анализ и обобщение научно-методической литера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дагогический эксперим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контрольных испыт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математической статис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1T14:15:21Z</dcterms:created>
  <dc:creator>UBAH</dc:creator>
  <dc:description/>
  <dc:language>en-US</dc:language>
  <cp:lastModifiedBy>Таня</cp:lastModifiedBy>
  <dcterms:modified xsi:type="dcterms:W3CDTF">2017-06-21T18:24:03Z</dcterms:modified>
  <cp:revision>151</cp:revision>
  <dc:subject/>
  <dc:title>Методика ра</dc:title>
</cp:coreProperties>
</file>