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6A6A-360F-4383-AAFC-D4AA70F5F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811F-2339-499F-8D17-4D92722C0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3B2E-F567-42C4-871F-C0CC33B80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8638-D9EA-4E6B-AA52-E820A361E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52283-19B4-46EA-874A-CE3A999ED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5FAF3-49A5-41B2-83BD-EF2E1117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9ECD2-F7F7-4918-AB4B-5A3998B31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ECE95-DC86-46AC-B0C4-5B23A9656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A6A1A-B800-4CB5-A1CC-4FD37A886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50862-7B32-4285-A0A1-0EA920E73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D077D-F55F-4576-9EFD-1D5747A3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6851-9803-45DA-ACCC-88955CF4A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9BB19-998C-41B4-9634-BEA0637F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159C0-3F82-46B0-98FD-9903DED8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04EE7-97EB-4E54-A357-9F7BBF689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01AA4-9A01-4E04-B191-860E795FE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87B52-5544-45E2-90BA-816B7B213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9BDA-EB8F-43CA-A567-2E10B0DFA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D77A-87E5-47D4-BDAB-A0C0C6B38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C9C3-4BAC-4A59-9808-D7397D348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6DB1-8ED5-4464-AA88-C65F78836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D0EC-B033-4005-88E6-64EAA293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8A5C-4B66-4120-895C-ECDAF8FF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18EA-F62B-495D-A3F7-FF3F992A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530CD-2AAB-4DC6-BD5D-DA6BF7F9D92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561E3-721D-4BCE-A94E-F35CE0A0F9B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015400" cy="14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ИНИСТЕРСТВО ОБРАЗОВАНИЯ И НАУКИ РОССИЙСКОЙ ФЕДЕРАЦИ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едеральное бюджетное образовательное учреждение высшего профессионального образован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АСНОЯРСКИЙ ГОСУДАРСТВЕННЫЙ ПЕДАГОГИЧЕСКИЙ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НИВЕРСИТЕТ  им. В.П.АСТАФЬЕВА  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ститут физической культуры, спорта и здоровья им. И.С. Ярыгина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Особенности развития координционных способностей у обучающихся младшего школьного возраста на уроках физкультуры общеобразовательной школ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полнил студен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янская Т.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учный руководит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рапатин С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4" descr="cimnastik.jpg"/>
          <p:cNvPicPr/>
          <p:nvPr/>
        </p:nvPicPr>
        <p:blipFill>
          <a:blip r:embed="rId1"/>
          <a:stretch/>
        </p:blipFill>
        <p:spPr>
          <a:xfrm>
            <a:off x="665280" y="2917800"/>
            <a:ext cx="52210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рганизация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следование проводилось на базе общеобразовательной школы № 2 г. Красноярска в четыре этап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этап  – изучение научно методической литературы по теме рабо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этап  – разработка методи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 этап – проверка эффективности методики, педагогический эксперимен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 этап – обработка результатов, написание и защита дипломной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иды тестир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и кувырка вперед на время выполнения (учитывают допущенные при этом ошибки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ночный бег Зх10 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лансирование на гимнастической скам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«Три кувырка вперед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д теста: Обучающийся встает у края матов, уложенных в длину, приняв основную стойку. По команде принимается положение упора присев, после группировки оттолкнувшись ногами, переворачивается через голову, прижимая подбородок к груди, возвращается в исходное положение. Последовательно, без остановки выполняется три кувырка вперед, стараясь сделать это за минимальный отрезок времени. После последнего кувырка обучающийся принимает основную стойку. Фиксируется время выполнения задания и оценка результ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«Челночный бег Зх10 м».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д теста: Ровная дорожка длиной 10 метров, отмеченная двумя чертами. За каждой чертой устанавливается мяч. По команде «На старт» учащийся принимает положение высокого старта у стартовой черты. По команде «Марш» включается секундомер, обучающийся бежит с максимальной скоростью 3 раза 10 метровую дистанция ( вначале пробежать 10 м до черты, коснуться рукой мяча, возвратиться назад, снова коснуться рукой мяча, бежать в третий раз10 метров финишируя). Результат оценивается до десятой доли секун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63160" y="252000"/>
            <a:ext cx="80154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Балансирование на гимнастической скамье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Ход теста: Обучающийся выполняет на поверхности гимнастической скамьи четыре поворота (вправо-влево), не упав. Поворот закончен когда обучающийся вернется в исходное положение. Результат оценивается на время выполнения четырех поворотов (с точностью до 0,1 секунды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бщие указания и замечания: после объяснения, демонстрации и опро­бования, ученик выполняет задание. Если он потерял равновесие (соскочил), то дается одна штрафная секунда. Прикасание к земле более трех раз – упражнение необходимо выполнять вновь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блица 1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зультаты тестирования контрольной и экспериментальной групп до педагогического эксперимента (сентябрь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609480" y="1600200"/>
          <a:ext cx="7925040" cy="4516560"/>
        </p:xfrm>
        <a:graphic>
          <a:graphicData uri="http://schemas.openxmlformats.org/drawingml/2006/table">
            <a:tbl>
              <a:tblPr/>
              <a:tblGrid>
                <a:gridCol w="3962520"/>
                <a:gridCol w="3962520"/>
              </a:tblGrid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 Контрольного испытания 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. арифм. величина (Х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 кувырка вперед на время выполнения (учитывают допущенные при этом ошибк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ночный бег Зх10 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ансирование на гимнастической скам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блица 2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зультаты тестирования контрольной и экспериментальной групп после педагогического эксперимента (апрель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09480" y="1600200"/>
          <a:ext cx="7925040" cy="4516560"/>
        </p:xfrm>
        <a:graphic>
          <a:graphicData uri="http://schemas.openxmlformats.org/drawingml/2006/table">
            <a:tbl>
              <a:tblPr/>
              <a:tblGrid>
                <a:gridCol w="3962520"/>
                <a:gridCol w="3962520"/>
              </a:tblGrid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 Контрольного испытания 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.арифм. величина (Х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 кувырка вперед на время выполнения (учитывают допущенные при этом ошибк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ночный бег Зх10 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ансирование на гимнастической скам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ирост показателей физических качеств в %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Содержимое 3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79250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52360"/>
            <a:ext cx="801540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кала оценки темпов прироста физических качеств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учающихся младшего школьного возраста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74720" y="1600200"/>
          <a:ext cx="7521480" cy="4375080"/>
        </p:xfrm>
        <a:graphic>
          <a:graphicData uri="http://schemas.openxmlformats.org/drawingml/2006/table">
            <a:tbl>
              <a:tblPr/>
              <a:tblGrid>
                <a:gridCol w="2506680"/>
                <a:gridCol w="2508120"/>
                <a:gridCol w="25066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пы приро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це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 счёт чего достигнут прир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76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удовлетвори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естественного рос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– 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влетвори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естественного роста и роста естественной двигательной актив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76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– 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рош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естественного роста и целенаправленной системы Ф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ыше 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лич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более эффективного использования естественных сил природы и Ф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799632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нализ проблемы повышения координационных способностей  показал, что в  процессе физического воспитания подрастающего поколения значительное место должно быть отведено воспитанию координационных способностей, так как высокий уровень развития  этих качеств во многом способствует гармоничному развитию личности, достижению высоких результатов в учебной деятельности, успешной трудовой деятельности в дальнейшем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нализ данных свидетельствует о том, что у обучащихся младшего школьного   возраста, занимающихся по стандартной школьной программе, то есть в  контрольной группе в конце педагогического эксперимента, показатели развития координационных способностей  увеличиваются незначительно, в отличии от показателей в     экспериментальной групп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можно сделать вывод, что показатели координационных способностей  обучащихся младшего школьного возраста экспериментальной группы достоверно выше показателей контрольной группы. Причиной этому явился экспериментальный фактор, а именно использование на уроках физической культуры комплексов  упражнений на развитие координаци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Актуальность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63800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дной из наиболее актуальных проблем физического воспитания подрастающего поколения в Российской Федерации является развитие координационных способностей у обучающихся младшего школьного возраста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.к. в этом возрасте закладываются основы управления движениями, формируются умения и навыки, отсутствие которых зачастую не удаётся восполнить в более позднем возрас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обретение богатого двигательного опыта у обучающихся в младшем школьном возрасте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 мнению многих специалистов значительное место в процессе физического воспитания подрастающего поколения должно быть отведено воспитанию координационных способностей , так как высокий уровень развития этого качества во многом способствует успешной трудовой деятельности человека и достижению высоких результатов в учебной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актические рекомендации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менять индивидуальный подход к каждому обучающему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менять разработанные методические мероприятия в комплексе, так как именно комплексность данной методики делает ее наиболее эффективн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ывать их морфологические показатели и физическую подготовленность к заняти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лексы упражнений применять в первой половине заня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 время выполнения упражнений использовать музыкальное сопровождение небольшой громк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ресной и удобной формой организации и проведения занятия является круговой метод, позволяющий повысить интенсивность выполнения упражн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язательно учитывать темпы прироста показате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определения уровня физической подготовленности рекомендуется использовать контрольные упражнения не реже двух раз в г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Цель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явить наиболее эффективные средства развития координационных способностей у обучающихся младшего школьного возраста на уроках физической культуры в общеобразовательной шко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Задачи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79232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оанализировать и выделить наиболее эффективные методы развития координационных способностей у обучающихся младшего школьного возрас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ыявить закономерности развития координационных способностей у обучающихся младшего школьного возрас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азработать экспериментальную программу для развития координационных способностей, основанную на применении упражнений художественной гимнастики на уроках физической культуры и выявить ее эффективность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оверить эффективность методики развития координационных способностей обучающихся младшего школьного возраста посредством практического эксперимент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Гипотеза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нение физических и гимнастических упражнений с динамическим характером на уроках физической культуры могут значительно повысить уровень координационных способностей обучающихся младшего школьного возр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бъект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тие координационных способностей у обучающихся младшего школьного возр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едмет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ика развития координационных способностей у обучающихся младшего школьного возр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Значимость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оретическая значимость исследования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ключается в дополнении теории и методики развития двигательных качеств у обучащихся младшего школьного возраста методическими положениями по повышению координационных способностей в результате использования на уроках физической культуры    комплексов специальных упражн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актическая значимость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ключается в повышении уровня развития координационных способностей у    обучающихся младшего возраста, в результате использования на уроках физической культуры специальных комплексов упражн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Методы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оретический анализ и обобщение научно-методической литерату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дагогический эксперимен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 контрольных испыт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 математической статист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1T14:15:21Z</dcterms:created>
  <dc:creator>UBAH</dc:creator>
  <dc:description/>
  <dc:language>en-US</dc:language>
  <cp:lastModifiedBy>Таня</cp:lastModifiedBy>
  <dcterms:modified xsi:type="dcterms:W3CDTF">2017-06-21T18:24:03Z</dcterms:modified>
  <cp:revision>151</cp:revision>
  <dc:subject/>
  <dc:title>Методика ра</dc:title>
</cp:coreProperties>
</file>