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FF6F-A571-4DD3-868D-85ECFF9A7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8C84-0DF1-4D3F-A84B-D1EF91EFD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3F56-BBBA-45D9-B42D-1F16E83F1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F1FF-AEB3-4329-8BF0-63FDE2329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DADAC-0A34-4FBE-B867-0EDB76E1B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4467F-3E8A-423F-A742-3FA18AA0D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32290-5138-480A-9354-721BC8570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A4850-F017-4B63-8CC4-F9EB39F3A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4044B-02AE-4302-849A-58E5B1024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969A1-2BA2-4432-96AC-955C2DF49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41926-1F48-42FF-96EB-2E030EDB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40B5-7A73-4CFF-A74E-42C293259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9960A-D52A-4B67-BE3B-05934288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0EF9E-0F9F-4233-8BE1-90199B92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73C95-86A8-41F6-8269-EC16C3374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E6733-321A-44E4-9E5D-36791413C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F3E60-2588-4966-9B3B-F3651B863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EF69-65FB-4072-A9DE-1369C6E65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3C89-4EA9-4806-8274-CE4EB9D52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A0EB-E57B-477E-A22A-C0983B28A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8A78-D1ED-4EAD-82AE-BC321A752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BB85-4F73-4893-B2E0-BFD45E58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93CD-C847-42FF-903D-4674CECE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CF68-F7E2-4F81-B3C2-6B99871A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D0678-63FC-499C-84AD-967F422F222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9C653-E581-4082-8D9E-A56C0E9D011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015400" cy="14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ИНИСТЕРСТВО ОБРАЗОВАНИЯ И НАУКИ РОССИЙСКОЙ ФЕДЕРАЦИ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едеральное бюджетное образовательное учреждение высшего профессионального образовани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АСНОЯРСКИЙ ГОСУДАРСТВЕННЫЙ ПЕДАГОГИЧЕСКИЙ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НИВЕРСИТЕТ  им. В.П.АСТАФЬЕВА  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ститут физической культуры, спорта и здоровья им. И.С. Ярыгина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Особенности развития координционных способностей у обучающихся младшего школьного возраста на уроках физкультуры общеобразовательной школ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полнил студен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янская Т.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учный руководите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рапатин С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4" descr="cimnastik.jpg"/>
          <p:cNvPicPr/>
          <p:nvPr/>
        </p:nvPicPr>
        <p:blipFill>
          <a:blip r:embed="rId1"/>
          <a:stretch/>
        </p:blipFill>
        <p:spPr>
          <a:xfrm>
            <a:off x="665280" y="2917800"/>
            <a:ext cx="52210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рганизация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следование проводилось на базе общеобразовательной школы № 2 г. Красноярска в четыре этап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этап  – изучение научно методической литературы по теме рабо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этап  – разработка методи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 этап – проверка эффективности методики, педагогический эксперимен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 этап – обработка результатов, написание и защита дипломной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иды тестир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и кувырка вперед на время выполнения (учитывают допущенные при этом ошибки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ночный бег Зх10 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лансирование на гимнастической скам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«Три кувырка вперед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д теста: Обучающийся встает у края матов, уложенных в длину, приняв основную стойку. По команде принимается положение упора присев, после группировки оттолкнувшись ногами, переворачивается через голову, прижимая подбородок к груди, возвращается в исходное положение. Последовательно, без остановки выполняется три кувырка вперед, стараясь сделать это за минимальный отрезок времени. После последнего кувырка обучающийся принимает основную стойку. Фиксируется время выполнения задания и оценка результ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«Челночный бег Зх10 м».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д теста: Ровная дорожка длиной 10 метров, отмеченная двумя чертами. За каждой чертой устанавливается мяч. По команде «На старт» учащийся принимает положение высокого старта у стартовой черты. По команде «Марш» включается секундомер, обучающийся бежит с максимальной скоростью 3 раза 10 метровую дистанция ( вначале пробежать 10 м до черты, коснуться рукой мяча, возвратиться назад, снова коснуться рукой мяча, бежать в третий раз10 метров финишируя). Результат оценивается до десятой доли секун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63160" y="252000"/>
            <a:ext cx="80154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Балансирование на гимнастической скамье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Ход теста: Обучающийся выполняет на поверхности гимнастической скамьи четыре поворота (вправо-влево), не упав. Поворот закончен когда обучающийся вернется в исходное положение. Результат оценивается на время выполнения четырех поворотов (с точностью до 0,1 секунды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бщие указания и замечания: после объяснения, демонстрации и опро­бования, ученик выполняет задание. Если он потерял равновесие (соскочил), то дается одна штрафная секунда. Прикасание к земле более трех раз – упражнение необходимо выполнять вновь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блица 1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зультаты тестирования контрольной и экспериментальной групп до педагогического эксперимента (сентябрь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609480" y="1600200"/>
          <a:ext cx="7925040" cy="4516560"/>
        </p:xfrm>
        <a:graphic>
          <a:graphicData uri="http://schemas.openxmlformats.org/drawingml/2006/table">
            <a:tbl>
              <a:tblPr/>
              <a:tblGrid>
                <a:gridCol w="3962520"/>
                <a:gridCol w="3962520"/>
              </a:tblGrid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 Контрольного испытания 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. арифм. величина (Х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 кувырка вперед на время выполнения (учитывают допущенные при этом ошибк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ночный бег Зх10 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ансирование на гимнастической скам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блица 2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зультаты тестирования контрольной и экспериментальной групп после педагогического эксперимента (апрель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09480" y="1600200"/>
          <a:ext cx="7925040" cy="4516560"/>
        </p:xfrm>
        <a:graphic>
          <a:graphicData uri="http://schemas.openxmlformats.org/drawingml/2006/table">
            <a:tbl>
              <a:tblPr/>
              <a:tblGrid>
                <a:gridCol w="3962520"/>
                <a:gridCol w="3962520"/>
              </a:tblGrid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 Контрольного испытания 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.арифм. величина (Х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 кувырка вперед на время выполнения (учитывают допущенные при этом ошибк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ночный бег Зх10 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ансирование на гимнастической скам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ирост показателей физических качеств в %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Содержимое 3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79250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52360"/>
            <a:ext cx="801540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Шкала оценки темпов прироста физических качеств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учающихся младшего школьного возраста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774720" y="1600200"/>
          <a:ext cx="7521480" cy="4375080"/>
        </p:xfrm>
        <a:graphic>
          <a:graphicData uri="http://schemas.openxmlformats.org/drawingml/2006/table">
            <a:tbl>
              <a:tblPr/>
              <a:tblGrid>
                <a:gridCol w="2506680"/>
                <a:gridCol w="2508120"/>
                <a:gridCol w="25066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мпы приро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це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 счёт чего достигнут прир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76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удовлетвори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естественного рос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– 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влетвори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естественного роста и роста естественной двигательной активн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76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– 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рош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естественного роста и целенаправленной системы Ф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ыше 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лич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более эффективного использования естественных сил природы и Ф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ывод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799632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нализ проблемы повышения координационных способностей  показал, что в  процессе физического воспитания подрастающего поколения значительное место должно быть отведено воспитанию координационных способностей, так как высокий уровень развития  этих качеств во многом способствует гармоничному развитию личности, достижению высоких результатов в учебной деятельности, успешной трудовой деятельности в дальнейшем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нализ данных свидетельствует о том, что у обучащихся младшего школьного   возраста, занимающихся по стандартной школьной программе, то есть в  контрольной группе в конце педагогического эксперимента, показатели развития координационных способностей  увеличиваются незначительно, в отличии от показателей в     экспериментальной групп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можно сделать вывод, что показатели координационных способностей  обучащихся младшего школьного возраста экспериментальной группы достоверно выше показателей контрольной группы. Причиной этому явился экспериментальный фактор, а именно использование на уроках физической культуры комплексов  упражнений на развитие координаци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Актуальность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63800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дной из наиболее актуальных проблем физического воспитания подрастающего поколения в Российской Федерации является развитие координационных способностей у обучающихся младшего школьного возраста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.к. в этом возрасте закладываются основы управления движениями, формируются умения и навыки, отсутствие которых зачастую не удаётся восполнить в более позднем возрас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обретение богатого двигательного опыта у обучающихся в младшем школьном возрасте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 мнению многих специалистов значительное место в процессе физического воспитания подрастающего поколения должно быть отведено воспитанию координационных способностей , так как высокий уровень развития этого качества во многом способствует успешной трудовой деятельности человека и достижению высоких результатов в учебной дея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актические рекомендации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менять индивидуальный подход к каждому обучающему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менять разработанные методические мероприятия в комплексе, так как именно комплексность данной методики делает ее наиболее эффективн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ывать их морфологические показатели и физическую подготовленность к заняти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лексы упражнений применять в первой половине заня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 время выполнения упражнений использовать музыкальное сопровождение небольшой громк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ресной и удобной формой организации и проведения занятия является круговой метод, позволяющий повысить интенсивность выполнения упражн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язательно учитывать темпы прироста показате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определения уровня физической подготовленности рекомендуется использовать контрольные упражнения не реже двух раз в г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Цель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явить наиболее эффективные средства развития координационных способностей у обучающихся младшего школьного возраста на уроках физической культуры в общеобразовательной шко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Задачи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79232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оанализировать и выделить наиболее эффективные методы развития координационных способностей у обучающихся младшего школьного возрас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ыявить закономерности развития координационных способностей у обучающихся младшего школьного возрас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азработать экспериментальную программу для развития координационных способностей, основанную на применении упражнений художественной гимнастики на уроках физической культуры и выявить ее эффективность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оверить эффективность методики развития координационных способностей обучающихся младшего школьного возраста посредством практического эксперимент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Гипотеза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нение физических и гимнастических упражнений с динамическим характером на уроках физической культуры могут значительно повысить уровень координационных способностей обучающихся младшего школьного возр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бъект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тие координационных способностей у обучающихся младшего школьного возр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едмет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ика развития координационных способностей у обучающихся младшего школьного возр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Значимость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оретическая значимость исследования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ключается в дополнении теории и методики развития двигательных качеств у обучащихся младшего школьного возраста методическими положениями по повышению координационных способностей в результате использования на уроках физической культуры    комплексов специальных упражн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актическая значимость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ключается в повышении уровня развития координационных способностей у    обучающихся младшего возраста, в результате использования на уроках физической культуры специальных комплексов упражн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Методы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оретический анализ и обобщение научно-методической литерату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дагогический эксперимен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 контрольных испыт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 математической статист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1T14:15:21Z</dcterms:created>
  <dc:creator>UBAH</dc:creator>
  <dc:description/>
  <dc:language>en-US</dc:language>
  <cp:lastModifiedBy>Таня</cp:lastModifiedBy>
  <dcterms:modified xsi:type="dcterms:W3CDTF">2017-06-21T18:24:03Z</dcterms:modified>
  <cp:revision>151</cp:revision>
  <dc:subject/>
  <dc:title>Методика ра</dc:title>
</cp:coreProperties>
</file>